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100-1ADE-4700-8125-C168601B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887-D8C5-4951-9B88-6EA51B3F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2BD-24BA-4033-8718-F527846E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889-F103-4A2D-B1D9-35034178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0549-0767-4413-860B-9795B2C3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07B9-098F-4B51-9B24-7C36538E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4873-1323-48F0-AB50-662F2CB9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F7FA-3EB9-4BF8-A82D-36FDF61D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D4C0-C258-4C76-B3BC-5A596CA0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406D-826E-4D45-B343-568AEB20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065D-1CFC-48B3-A7F6-48F4F5C9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CEB-BFEE-4729-8085-67087FA6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2ADF-1643-446F-ADBF-4132AC41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B246-B172-4D18-B836-5EA6526E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2FF0-779F-4788-8FD5-E4ADF849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A011-C196-452E-AEB8-4D444C0A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3D39-EF3B-4C7D-AD8C-5DDC778B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737-DA09-48B3-AFD3-9965C4CA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84B-BCF0-4B15-A39E-56941431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24E-BD83-483A-9B6A-CD1A003F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8CA-D582-493B-BFCF-3E417A54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BCE-06B7-4135-9F45-8D48D2D3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196-BBAB-45F1-9AF8-BBC61230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E9D-3797-4733-9D26-1BBB56EC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58C2-3AF8-4DE6-94C4-C48F8E2946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57B0-CA5E-45AF-A0A5-36411A05D7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Роль информации в современном обществе.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водная презентац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Соответствовать требованиям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XXI</a:t>
            </a: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 век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0240" y="1815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деры всех стран мира, стремясь подготовить своих граждан к тому, чтобы в полной мере соответствовать требования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, заявляют, чт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ля информационного общества необходимы граждане, владеющие современными зна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Обществу грозит хроническое отстава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4960" y="1491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тивном случае, обществу грозит хроническое отставание, несостоятельность в решении тех задач, которые ставит перед ни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. Человек сегодня нуждается не только в новых практических навыках и теоретических  знаниях, но и в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пособности постоянно совершенствовать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эти знания и нав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0033"/>
                </a:solidFill>
                <a:latin typeface="Times New Roman"/>
              </a:rPr>
              <a:t>Темы самостоятельных исследований: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илось ли в твоем городе информационное общество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ой степени каждый из вас обладает информационной культур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изменения произойдут в укладе жизни членов информационного общества: в работе, в учебе, в быт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амятка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по проведению исследова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ери одну из предложенных тем и укажи ав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вь проблемный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двини свои гипот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май ход своего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 оформи в виде таблицы или диа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й 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забудь указать  использованную литера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езультаты исследований можно оформить в вид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убл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арты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аблиц, ди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j0303355"/>
          <p:cNvPicPr/>
          <p:nvPr/>
        </p:nvPicPr>
        <p:blipFill>
          <a:blip r:embed="rId1"/>
          <a:stretch/>
        </p:blipFill>
        <p:spPr>
          <a:xfrm>
            <a:off x="5219640" y="2511360"/>
            <a:ext cx="2737080" cy="250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рассчитан на 3 недели ( 5 ча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 rot="20605800">
            <a:off x="1052280" y="2781360"/>
            <a:ext cx="703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735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спехов вам в работе над проектом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735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бная тем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нформатизация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5 ч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ополагающий вопрос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упрежден – значит вооруже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блемный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ое общество - это о россиянах или н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бные вопрос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 «информационное общество». Каковы его характерные чер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 «информационные ресурсы» и «информационная культур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ы положительные и негативные последствия информат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ем нужны законодательные акты в информационной сфе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беспечить информационную безопасность лич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идактические цели проекта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информационной культуры учащих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КТ-компетен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компетентности в сфере самостоятельной, познавательной деятельности, навыков самостоятельной работы с большими объемами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становки на позитивную социальную деятельность в информационном обществе, на недопустимость действий, нарушающих этические, правовые нормы работы с информ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дачи проекта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воить понятия «информационное общество»,  «информационные ресурсы», «информационная безопасность», «информационная культу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учиться нормам информационной этики и права, соблюдению авторских прав на информационные 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учиться получать, обрабатывать и обобщать полученную информацию в результате проведенных социологических опросов, поиска данных в различных источниках, в том числе Интер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е предм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ни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щиеся 9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64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Захватывающие, до сих пор не существовавшие возмож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228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, основанные на Интернете, телекоммуникационных и интеллектуальных компьюте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ных системах, открываю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д новыми поколениям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хватывающие, до сих пор не существовавшие возмож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вободного распространения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ые факторы, определяющие перспективы развития обществ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3200" y="19126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о всём мире люди надеются, что новые технологии приведут к более здоровому образу жизни, большим социальным свободам, растущему уровню знаний. Будущим поколениям придётся столкнуться с необходимостью приспосабливаться к новой социальной среде, где не природные ресурсы и энергия, а </a:t>
            </a:r>
            <a:r>
              <a:rPr b="1" i="1" lang="ru-RU" sz="2300" spc="-1" strike="noStrike">
                <a:solidFill>
                  <a:srgbClr val="ff0000"/>
                </a:solidFill>
                <a:latin typeface="Arial"/>
              </a:rPr>
              <a:t>информация и научное знание станут основными факторами, </a:t>
            </a:r>
            <a:br>
              <a:rPr sz="2300"/>
            </a:br>
            <a:r>
              <a:rPr b="1" i="1" lang="ru-RU" sz="2300" spc="-1" strike="noStrike">
                <a:solidFill>
                  <a:srgbClr val="ff0000"/>
                </a:solidFill>
                <a:latin typeface="Arial"/>
              </a:rPr>
              <a:t>определяющими перспективы</a:t>
            </a:r>
            <a:br>
              <a:rPr sz="2300"/>
            </a:br>
            <a:r>
              <a:rPr b="1" i="1" lang="ru-RU" sz="2300" spc="-1" strike="noStrike">
                <a:solidFill>
                  <a:srgbClr val="ff0000"/>
                </a:solidFill>
                <a:latin typeface="Arial"/>
              </a:rPr>
              <a:t> развития обществ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9:08:49Z</dcterms:created>
  <dc:creator>Челядина</dc:creator>
  <dc:description/>
  <dc:language>en-US</dc:language>
  <cp:lastModifiedBy>NITRO</cp:lastModifiedBy>
  <dcterms:modified xsi:type="dcterms:W3CDTF">2010-06-03T07:36:01Z</dcterms:modified>
  <cp:revision>8</cp:revision>
  <dc:subject/>
  <dc:title>Роль информации в современном обществе.</dc:title>
</cp:coreProperties>
</file>